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47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1"/>
          </p:nvPr>
        </p:nvSpPr>
        <p:spPr>
          <a:xfrm>
            <a:off x="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12"/>
          </p:nvPr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A705-A533-4057-A9C6-7D8D95FD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9DA-1C95-4ED6-B826-D80B73C7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F17A-D6F7-4328-8487-47799C5F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22D-7C9D-4C3C-A7B2-233AB0CC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EB7-FFB6-4843-BD59-015D61C5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4000" y="4464000"/>
            <a:ext cx="54766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7F73-5B6A-4895-8AAE-0C11181F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7C3-4BEF-46CF-B4E0-69FB9462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D6D-CABB-447B-A4C4-7A753A3E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7070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D39-7C62-47BE-BBA5-B976E43F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78280" y="8928000"/>
            <a:ext cx="2967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78E-AED9-4250-B16C-45A84032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2600" y="4464000"/>
            <a:ext cx="50194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3FD-6365-4FBE-91EF-3DDC2F8E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7F7-0217-4463-BEE4-588025A5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9D1-4390-42EC-A1B8-A9A169A7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0B3-DAD2-4CFB-A218-694FDC5D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31D-0AD6-4114-B49C-3107BE9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321-81EA-4511-9B83-34729274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7A5-FDD9-421C-A08C-6909F8C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B63-2989-421F-858B-565CDA7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E77-5C3A-4635-A29B-A398990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78C-3FFB-4EAB-B277-AFC23DF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6D2-6CBF-4BBB-95EF-EB4A8C9C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C55-77DA-48B3-AB36-E1D48F83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A27-5C42-40F5-AD7F-07245428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2A35-04E3-4D02-95AA-93E1A5D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87F-1B1D-4181-A290-1C58A9C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40D-5AE0-44CF-802B-E5A34833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0C8-F9DD-4CA1-AB22-C75CEEAB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8F5-DCD1-4B59-B2D5-1E94681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3EEF-BA1F-41C6-AD03-606A0BF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5CD9-389A-4D30-8E7A-B5A7BF8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B3E9-3DE2-494F-BB44-EBD5CA96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9B1-620B-4FAF-91CB-4CD5FA6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A24-DC47-4E49-9BB0-F64876F2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810-29C3-4BD5-8E01-2701F84C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DBB86-B829-4F3D-A592-B4CA8A5C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8D90F-3011-4501-AA22-671C256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3B3D7-948B-4AC1-866F-A69E655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166CB-25EB-4303-9168-4951016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3F1A8-66F8-4073-BEEF-E50B010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BA77C-FA50-4DEC-9AF2-286CBDD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D9957-1906-424C-B71A-3AA0937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846EC-E4BC-4024-A8D4-0BE27C0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D54B3-180A-423C-B0B7-4EF2466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AAB12-9659-4938-8534-47CBDF2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01788-F9CF-4E97-B908-BBC647A0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B789C-0F4D-4F0E-B5F2-24D202E4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1218960" y="655272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86868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C232-5E0C-45FD-8BEC-8BD9A88DD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83E-05C5-4581-A1DB-FCE784820F3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7"/>
          </p:nvPr>
        </p:nvSpPr>
        <p:spPr>
          <a:xfrm>
            <a:off x="53316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.465 - Intro to NLP - J. Eis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8"/>
          </p:nvPr>
        </p:nvSpPr>
        <p:spPr>
          <a:xfrm>
            <a:off x="67309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632D-4C58-4B27-AAE6-B2D7402A38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dt" idx="9"/>
          </p:nvPr>
        </p:nvSpPr>
        <p:spPr>
          <a:xfrm>
            <a:off x="41907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spamassassin.apache.org/tests_3_3_x.html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 Condensed"/>
              </a:rPr>
              <a:t>Text Classification</a:t>
            </a:r>
            <a:endParaRPr b="0" lang="en-US" sz="6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ïve Baye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447920" y="571500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notice: most slides from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 M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lus some from William Cohen, Chien Chin Chen, Jason Eisner, David Yarowsky, Dan Jurafsky, P. Nakov, Marti Hearst, Barbara Ros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presenting text for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1066680" y="6580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William Co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295280" y="1600200"/>
            <a:ext cx="45720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GENTINE 1986/87 GRAIN/OILSEED REGIST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ENOS AIRES, Feb 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gentine grain board figures show crop registrations of grains, oilseeds and their products to February 11, in thousands of tonnes, showing those for future shipments month, 1986/87 total and 1985/86 total to February 12, 1986, in bracket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ead wheat prev 1,655.8, Feb 872.0, March 164.6, total 2,692.4 (4,161.0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ize Mar 48.0, total 48.0 (nil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rghum nil (ni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ilseed export registrations wer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flowerseed total 15.0 (7.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ybean May 20.0, total 20.0 (ni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board also detailed export registrations for subproducts, as follows.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90880" y="148428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f(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5846760" y="1484280"/>
            <a:ext cx="2088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)=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 rot="16200000">
            <a:off x="3276360" y="167580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505320" y="4495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365280" y="4343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419720" y="4419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est representation for the docu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class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 flipH="1">
            <a:off x="6095520" y="4343400"/>
            <a:ext cx="68580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6718320" y="3962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mplest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g of words represent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1523880" y="65530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William Co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914400" y="1752480"/>
            <a:ext cx="7848720" cy="37339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ENTIN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1986/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GIST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UENOS AIRES, Feb 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ent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board figures show crop registration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nd their products to February 11, in thousand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ne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showing those for fu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month, 1986/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nd 1985/8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to February 12, 1986, in bracke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prev 1,655.8, Feb 872.0, March 164.6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2,692.4 (4,161.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Mar 48.0, total 48.0 (ni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ghum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nil (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export registrations w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flowerse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total 15.0 (7.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bean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May 20.0, total 20.0 (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 board also detailed export registrations for subproducts, as follows....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133720" y="5715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es: grain,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752480" y="59436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g of words represent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914400" y="1752480"/>
            <a:ext cx="7848720" cy="37339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xxxxxxxxxxxxxxxxxx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xxxxxxx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xxxxxxxxxxxxxxx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 xxxxxxxxxxxxxxxxxxxxxxxxxx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ne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xxxxxxxxxxxxxxxx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s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  xxxxxxxxxxxxxxxxxxx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Xxxx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xxxxxxxxxxxxxxxx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ghum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flowerse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bean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xxxxxxxxxxxxxxxxxxxxxxxxxxxxxxxxxxxxxxxxxxxxxxxxxxx....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133720" y="5715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es: grain,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1752480" y="59436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1523880" y="65530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William Co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g of words represent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28600" y="1752480"/>
            <a:ext cx="4114800" cy="266724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xxxxxxxxxxxxxxxxxxx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xxxxxxxxx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xxxxxxxxx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xxxxxxxxxxxxxxx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i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seeds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 xxxxxxxxxxxxxxxxxxxxxxxxxx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nes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, xxxxxxxxxxxxxxxx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ments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  xxxxxxxxxxxxxxxxxxxx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Xxxx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xxxxxxxxxxxxxxxx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ze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ghum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seed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flowerseed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ybean</a:t>
            </a: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 xxxxxxxxxxxxxxxxxxx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xxxxxxxxxxxxxxxxxxxxxxxxxxxxxxxxxxxxxxxxxxxxxxxxxxx....</a:t>
            </a:r>
            <a:r>
              <a:rPr b="0" lang="en-US" sz="7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133720" y="5715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es: grain,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 flipH="1">
            <a:off x="5105160" y="4952880"/>
            <a:ext cx="68580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486400" y="1752480"/>
          <a:ext cx="3048120" cy="2970360"/>
        </p:xfrm>
        <a:graphic>
          <a:graphicData uri="http://schemas.openxmlformats.org/drawingml/2006/table">
            <a:tbl>
              <a:tblPr/>
              <a:tblGrid>
                <a:gridCol w="182880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in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lseed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n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Line 45"/>
          <p:cNvSpPr/>
          <p:nvPr/>
        </p:nvSpPr>
        <p:spPr>
          <a:xfrm>
            <a:off x="4495680" y="35053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6"/>
          <p:cNvSpPr/>
          <p:nvPr/>
        </p:nvSpPr>
        <p:spPr>
          <a:xfrm>
            <a:off x="5979960" y="1230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7"/>
          <p:cNvSpPr/>
          <p:nvPr/>
        </p:nvSpPr>
        <p:spPr>
          <a:xfrm>
            <a:off x="7343640" y="1230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144792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William Co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Formalizing Naïve Baye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yes’ Rul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906560" y="1765440"/>
                <a:ext cx="5396040" cy="14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762120" y="4038480"/>
            <a:ext cx="7772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llows us to swap the cond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ometimes easier to estimate one kind of dependence than the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3048120" y="2971800"/>
            <a:ext cx="4038120" cy="3580920"/>
            <a:chOff x="3048120" y="2971800"/>
            <a:chExt cx="4038120" cy="3580920"/>
          </a:xfrm>
        </p:grpSpPr>
        <p:pic>
          <p:nvPicPr>
            <p:cNvPr id="356" name="Picture 3" descr=""/>
            <p:cNvPicPr/>
            <p:nvPr/>
          </p:nvPicPr>
          <p:blipFill>
            <a:blip r:embed="rId1"/>
            <a:stretch/>
          </p:blipFill>
          <p:spPr>
            <a:xfrm>
              <a:off x="3048120" y="2971800"/>
              <a:ext cx="4038120" cy="35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4"/>
            <p:cNvSpPr/>
            <p:nvPr/>
          </p:nvSpPr>
          <p:spPr>
            <a:xfrm>
              <a:off x="5806800" y="3386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the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occurring giv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Deriving Bayes’ Rul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4741920" y="1676520"/>
                <a:ext cx="4062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Ç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690480" y="1693800"/>
                <a:ext cx="38815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4853160" y="3352680"/>
                <a:ext cx="4214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Ç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762120" y="3352680"/>
                <a:ext cx="380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2719440" y="4343400"/>
                <a:ext cx="4788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71720" y="5334120"/>
                <a:ext cx="40118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Line 9"/>
          <p:cNvSpPr/>
          <p:nvPr/>
        </p:nvSpPr>
        <p:spPr>
          <a:xfrm>
            <a:off x="2185920" y="2895480"/>
            <a:ext cx="22860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H="1">
            <a:off x="6605280" y="2895480"/>
            <a:ext cx="1522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 flipH="1">
            <a:off x="6529320" y="3962520"/>
            <a:ext cx="15264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3100320" y="3962520"/>
            <a:ext cx="22860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4853160" y="4952880"/>
            <a:ext cx="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yes’ Rule Applied to Documents an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121932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992160" y="2109960"/>
                <a:ext cx="6661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Rectangle 4"/>
          <p:cNvSpPr/>
          <p:nvPr/>
        </p:nvSpPr>
        <p:spPr>
          <a:xfrm>
            <a:off x="2216160" y="3436920"/>
            <a:ext cx="4584600" cy="119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2430360" y="3521160"/>
                <a:ext cx="41767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Text Classification Problem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4191120" y="1755720"/>
                <a:ext cx="2314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ing a supervis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earning metho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e want to learn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ifi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or classification function):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denote the supervised learning method b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learning metho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akes the training 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as input and returns the learned classifi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ce we have learne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e can apply it to the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test set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or test dat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17144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ien Chin 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1171440" y="2657520"/>
                <a:ext cx="1800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ext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 “text categorization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ïve Bayes text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Text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2800" spc="-1" strike="noStrike">
                <a:solidFill>
                  <a:srgbClr val="868686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Calibri"/>
              </a:rPr>
              <a:t>Multinomial Naïve Bayes model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B) is a probabilistic learning meth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xt classification, our goal is to find the 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 class for the docum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1015920" y="6575400"/>
            <a:ext cx="312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ien Chin 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866880" y="3716280"/>
                <a:ext cx="2867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371600" y="4437000"/>
                <a:ext cx="30495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371600" y="5452920"/>
                <a:ext cx="2963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Text Box 16"/>
          <p:cNvSpPr/>
          <p:nvPr/>
        </p:nvSpPr>
        <p:spPr>
          <a:xfrm>
            <a:off x="4140360" y="3762360"/>
            <a:ext cx="2793960" cy="58068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bability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ing in cla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 flipV="1">
            <a:off x="3708360" y="4005360"/>
            <a:ext cx="43200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5029200" y="4800600"/>
            <a:ext cx="2793960" cy="33732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yes’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7"/>
          <p:cNvSpPr/>
          <p:nvPr/>
        </p:nvSpPr>
        <p:spPr>
          <a:xfrm flipH="1" flipV="1">
            <a:off x="4520880" y="488160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4952880" y="5529240"/>
            <a:ext cx="2793960" cy="58068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ignore the deno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7"/>
          <p:cNvSpPr/>
          <p:nvPr/>
        </p:nvSpPr>
        <p:spPr>
          <a:xfrm flipH="1" flipV="1">
            <a:off x="4520880" y="571932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ive Bayes Classifi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440" y="1447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represent an in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ased on some attribut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sk: Classify a new insta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a tuple of attribute values                                  into one of the class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1600200" y="659592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057400" y="1828800"/>
                <a:ext cx="2374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668160" y="3124080"/>
                <a:ext cx="4437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293840" y="4068720"/>
                <a:ext cx="45734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274760" y="5410080"/>
                <a:ext cx="45165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16"/>
          <p:cNvSpPr/>
          <p:nvPr/>
        </p:nvSpPr>
        <p:spPr>
          <a:xfrm>
            <a:off x="5664240" y="3200400"/>
            <a:ext cx="2793960" cy="58068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bability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ing in cla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H="1" flipV="1">
            <a:off x="5206680" y="342900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6350040" y="4419720"/>
            <a:ext cx="2793960" cy="33732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yes’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 flipH="1" flipV="1">
            <a:off x="5841720" y="450072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6273720" y="5529240"/>
            <a:ext cx="2793960" cy="58068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ignore the deno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7"/>
          <p:cNvSpPr/>
          <p:nvPr/>
        </p:nvSpPr>
        <p:spPr>
          <a:xfrm flipH="1" flipV="1">
            <a:off x="5841720" y="571932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Classifier: Naïve Bayes Assump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estimated from the frequency of classes in the training exam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|X|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|C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ld only be estimated if a very, very large number of training examples was avail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Calibri"/>
              </a:rPr>
              <a:t>Naïve Bayes Conditional Independence Assum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that the probability of observing the conjunction of attributes is equal to the product of the individual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1295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1619640" y="1828800"/>
            <a:ext cx="4983480" cy="1753560"/>
            <a:chOff x="1619640" y="1828800"/>
            <a:chExt cx="4983480" cy="1753560"/>
          </a:xfrm>
        </p:grpSpPr>
        <p:sp>
          <p:nvSpPr>
            <p:cNvPr id="411" name="Oval 3"/>
            <p:cNvSpPr/>
            <p:nvPr/>
          </p:nvSpPr>
          <p:spPr>
            <a:xfrm>
              <a:off x="3962520" y="182880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F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"/>
            <p:cNvSpPr/>
            <p:nvPr/>
          </p:nvSpPr>
          <p:spPr>
            <a:xfrm>
              <a:off x="1981440" y="297144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5"/>
            <p:cNvSpPr/>
            <p:nvPr/>
          </p:nvSpPr>
          <p:spPr>
            <a:xfrm>
              <a:off x="2819520" y="297144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6"/>
            <p:cNvSpPr/>
            <p:nvPr/>
          </p:nvSpPr>
          <p:spPr>
            <a:xfrm>
              <a:off x="5410440" y="297144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"/>
            <p:cNvSpPr/>
            <p:nvPr/>
          </p:nvSpPr>
          <p:spPr>
            <a:xfrm>
              <a:off x="3810240" y="2971440"/>
              <a:ext cx="62208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AutoShape 8"/>
            <p:cNvCxnSpPr>
              <a:stCxn id="411" idx="4"/>
              <a:endCxn id="412" idx="0"/>
            </p:cNvCxnSpPr>
            <p:nvPr/>
          </p:nvCxnSpPr>
          <p:spPr>
            <a:xfrm flipH="1">
              <a:off x="2291760" y="2121840"/>
              <a:ext cx="198180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9"/>
            <p:cNvCxnSpPr>
              <a:stCxn id="411" idx="4"/>
              <a:endCxn id="413" idx="0"/>
            </p:cNvCxnSpPr>
            <p:nvPr/>
          </p:nvCxnSpPr>
          <p:spPr>
            <a:xfrm flipH="1">
              <a:off x="3129840" y="2121840"/>
              <a:ext cx="114372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AutoShape 10"/>
            <p:cNvCxnSpPr>
              <a:stCxn id="411" idx="4"/>
              <a:endCxn id="415" idx="0"/>
            </p:cNvCxnSpPr>
            <p:nvPr/>
          </p:nvCxnSpPr>
          <p:spPr>
            <a:xfrm flipH="1">
              <a:off x="4120560" y="2121840"/>
              <a:ext cx="15300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AutoShape 11"/>
            <p:cNvCxnSpPr>
              <a:stCxn id="411" idx="4"/>
              <a:endCxn id="414" idx="0"/>
            </p:cNvCxnSpPr>
            <p:nvPr/>
          </p:nvCxnSpPr>
          <p:spPr>
            <a:xfrm>
              <a:off x="4273560" y="2121840"/>
              <a:ext cx="144864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" name="Oval 12"/>
            <p:cNvSpPr/>
            <p:nvPr/>
          </p:nvSpPr>
          <p:spPr>
            <a:xfrm>
              <a:off x="4648320" y="2971440"/>
              <a:ext cx="622440" cy="2790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1" name="AutoShape 13"/>
            <p:cNvCxnSpPr>
              <a:stCxn id="411" idx="4"/>
              <a:endCxn id="420" idx="0"/>
            </p:cNvCxnSpPr>
            <p:nvPr/>
          </p:nvCxnSpPr>
          <p:spPr>
            <a:xfrm>
              <a:off x="4273200" y="2121840"/>
              <a:ext cx="686520" cy="83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2" name="Text Box 14"/>
            <p:cNvSpPr/>
            <p:nvPr/>
          </p:nvSpPr>
          <p:spPr>
            <a:xfrm>
              <a:off x="4650120" y="32752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f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5"/>
            <p:cNvSpPr/>
            <p:nvPr/>
          </p:nvSpPr>
          <p:spPr>
            <a:xfrm>
              <a:off x="2792880" y="3275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sin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6"/>
            <p:cNvSpPr/>
            <p:nvPr/>
          </p:nvSpPr>
          <p:spPr>
            <a:xfrm>
              <a:off x="3708000" y="327528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cou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1619640" y="327528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runnyn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8"/>
            <p:cNvSpPr/>
            <p:nvPr/>
          </p:nvSpPr>
          <p:spPr>
            <a:xfrm>
              <a:off x="5310000" y="327528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muscle-a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Naïve Bayes Classifier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37800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000"/>
                </a:solidFill>
                <a:latin typeface="Calibri"/>
              </a:rPr>
              <a:t>Conditional Independence Assump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are independent of each other given the cla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212840" y="5357880"/>
                <a:ext cx="76262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⋯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Footer Placeholder 4"/>
          <p:cNvSpPr/>
          <p:nvPr/>
        </p:nvSpPr>
        <p:spPr>
          <a:xfrm>
            <a:off x="1295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Using Multinomial Naive Bayes Classifiers to Classify Text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60020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xt posi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values ar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85800" y="4191120"/>
            <a:ext cx="817884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too many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classification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sition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ame parameters for each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 is </a:t>
            </a:r>
            <a:r>
              <a:rPr b="0" i="1" lang="en-US" sz="24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bag of words mod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ver tokens not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942840" y="2362320"/>
                <a:ext cx="77788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our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text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Footer Placeholder 4"/>
          <p:cNvSpPr/>
          <p:nvPr/>
        </p:nvSpPr>
        <p:spPr>
          <a:xfrm>
            <a:off x="1295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Learning the Model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480" y="3173400"/>
            <a:ext cx="7925040" cy="12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st: maximum likelihood est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y use the frequencies i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773360" y="5227560"/>
                <a:ext cx="5084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9" name="Group 5"/>
          <p:cNvGrpSpPr/>
          <p:nvPr/>
        </p:nvGrpSpPr>
        <p:grpSpPr>
          <a:xfrm>
            <a:off x="2436840" y="1295280"/>
            <a:ext cx="4421160" cy="1599840"/>
            <a:chOff x="2436840" y="1295280"/>
            <a:chExt cx="4421160" cy="1599840"/>
          </a:xfrm>
        </p:grpSpPr>
        <p:sp>
          <p:nvSpPr>
            <p:cNvPr id="440" name="Oval 6"/>
            <p:cNvSpPr/>
            <p:nvPr/>
          </p:nvSpPr>
          <p:spPr>
            <a:xfrm>
              <a:off x="4220280" y="1295280"/>
              <a:ext cx="657000" cy="41940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2436840" y="2491200"/>
              <a:ext cx="61164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"/>
            <p:cNvSpPr/>
            <p:nvPr/>
          </p:nvSpPr>
          <p:spPr>
            <a:xfrm>
              <a:off x="3191400" y="2491200"/>
              <a:ext cx="69408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"/>
            <p:cNvSpPr/>
            <p:nvPr/>
          </p:nvSpPr>
          <p:spPr>
            <a:xfrm>
              <a:off x="5523120" y="2491200"/>
              <a:ext cx="57312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"/>
            <p:cNvSpPr/>
            <p:nvPr/>
          </p:nvSpPr>
          <p:spPr>
            <a:xfrm>
              <a:off x="4082760" y="2491200"/>
              <a:ext cx="56592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5" name="AutoShape 11"/>
            <p:cNvCxnSpPr>
              <a:stCxn id="440" idx="4"/>
              <a:endCxn id="441" idx="0"/>
            </p:cNvCxnSpPr>
            <p:nvPr/>
          </p:nvCxnSpPr>
          <p:spPr>
            <a:xfrm flipH="1">
              <a:off x="2741760" y="1714320"/>
              <a:ext cx="180684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12"/>
            <p:cNvCxnSpPr>
              <a:stCxn id="440" idx="4"/>
              <a:endCxn id="442" idx="0"/>
            </p:cNvCxnSpPr>
            <p:nvPr/>
          </p:nvCxnSpPr>
          <p:spPr>
            <a:xfrm flipH="1">
              <a:off x="3538080" y="1715760"/>
              <a:ext cx="101088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13"/>
            <p:cNvCxnSpPr>
              <a:stCxn id="440" idx="4"/>
              <a:endCxn id="444" idx="0"/>
            </p:cNvCxnSpPr>
            <p:nvPr/>
          </p:nvCxnSpPr>
          <p:spPr>
            <a:xfrm flipH="1">
              <a:off x="4365360" y="1714320"/>
              <a:ext cx="18360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14"/>
            <p:cNvCxnSpPr>
              <a:stCxn id="440" idx="4"/>
              <a:endCxn id="443" idx="0"/>
            </p:cNvCxnSpPr>
            <p:nvPr/>
          </p:nvCxnSpPr>
          <p:spPr>
            <a:xfrm>
              <a:off x="4547520" y="1715760"/>
              <a:ext cx="126180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Oval 15"/>
            <p:cNvSpPr/>
            <p:nvPr/>
          </p:nvSpPr>
          <p:spPr>
            <a:xfrm>
              <a:off x="4837320" y="2491200"/>
              <a:ext cx="57276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6"/>
            <p:cNvSpPr/>
            <p:nvPr/>
          </p:nvSpPr>
          <p:spPr>
            <a:xfrm>
              <a:off x="6209280" y="2491200"/>
              <a:ext cx="648720" cy="4039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AutoShape 17"/>
            <p:cNvCxnSpPr>
              <a:stCxn id="440" idx="4"/>
              <a:endCxn id="449" idx="0"/>
            </p:cNvCxnSpPr>
            <p:nvPr/>
          </p:nvCxnSpPr>
          <p:spPr>
            <a:xfrm>
              <a:off x="4546440" y="1715760"/>
              <a:ext cx="57636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18"/>
            <p:cNvCxnSpPr>
              <a:stCxn id="440" idx="4"/>
              <a:endCxn id="450" idx="0"/>
            </p:cNvCxnSpPr>
            <p:nvPr/>
          </p:nvCxnSpPr>
          <p:spPr>
            <a:xfrm>
              <a:off x="4546440" y="1714320"/>
              <a:ext cx="1985400" cy="7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2292480" y="4173480"/>
                <a:ext cx="31939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Footer Placeholder 4"/>
          <p:cNvSpPr/>
          <p:nvPr/>
        </p:nvSpPr>
        <p:spPr>
          <a:xfrm>
            <a:off x="1295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Problem with Max Likelihood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1521000" y="4241880"/>
                <a:ext cx="5756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354780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if we have seen no training cases where patient had no flu and muscle ach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ero probabilities cannot be conditioned away, no matter the other evidenc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1905120" y="5486400"/>
                <a:ext cx="5060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9" name="Group 6"/>
          <p:cNvGrpSpPr/>
          <p:nvPr/>
        </p:nvGrpSpPr>
        <p:grpSpPr>
          <a:xfrm>
            <a:off x="1899000" y="1295280"/>
            <a:ext cx="4983480" cy="1753920"/>
            <a:chOff x="1899000" y="1295280"/>
            <a:chExt cx="4983480" cy="1753920"/>
          </a:xfrm>
        </p:grpSpPr>
        <p:sp>
          <p:nvSpPr>
            <p:cNvPr id="460" name="Oval 7"/>
            <p:cNvSpPr/>
            <p:nvPr/>
          </p:nvSpPr>
          <p:spPr>
            <a:xfrm>
              <a:off x="4241880" y="1295280"/>
              <a:ext cx="62244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F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8"/>
            <p:cNvSpPr/>
            <p:nvPr/>
          </p:nvSpPr>
          <p:spPr>
            <a:xfrm>
              <a:off x="2260800" y="2438280"/>
              <a:ext cx="62208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9"/>
            <p:cNvSpPr/>
            <p:nvPr/>
          </p:nvSpPr>
          <p:spPr>
            <a:xfrm>
              <a:off x="3098880" y="2438280"/>
              <a:ext cx="62244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0"/>
            <p:cNvSpPr/>
            <p:nvPr/>
          </p:nvSpPr>
          <p:spPr>
            <a:xfrm>
              <a:off x="5689800" y="2438280"/>
              <a:ext cx="62208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1"/>
            <p:cNvSpPr/>
            <p:nvPr/>
          </p:nvSpPr>
          <p:spPr>
            <a:xfrm>
              <a:off x="4089600" y="2438280"/>
              <a:ext cx="62208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5" name="AutoShape 12"/>
            <p:cNvCxnSpPr>
              <a:stCxn id="460" idx="4"/>
              <a:endCxn id="461" idx="0"/>
            </p:cNvCxnSpPr>
            <p:nvPr/>
          </p:nvCxnSpPr>
          <p:spPr>
            <a:xfrm flipH="1">
              <a:off x="2571120" y="1589040"/>
              <a:ext cx="1981800" cy="835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AutoShape 13"/>
            <p:cNvCxnSpPr>
              <a:stCxn id="460" idx="4"/>
              <a:endCxn id="462" idx="0"/>
            </p:cNvCxnSpPr>
            <p:nvPr/>
          </p:nvCxnSpPr>
          <p:spPr>
            <a:xfrm flipH="1">
              <a:off x="3409200" y="1589040"/>
              <a:ext cx="1143720" cy="835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7" name="AutoShape 14"/>
            <p:cNvCxnSpPr>
              <a:stCxn id="460" idx="4"/>
              <a:endCxn id="464" idx="0"/>
            </p:cNvCxnSpPr>
            <p:nvPr/>
          </p:nvCxnSpPr>
          <p:spPr>
            <a:xfrm flipH="1">
              <a:off x="4399920" y="1589040"/>
              <a:ext cx="153000" cy="835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AutoShape 15"/>
            <p:cNvCxnSpPr>
              <a:stCxn id="460" idx="4"/>
              <a:endCxn id="463" idx="0"/>
            </p:cNvCxnSpPr>
            <p:nvPr/>
          </p:nvCxnSpPr>
          <p:spPr>
            <a:xfrm>
              <a:off x="4552920" y="1589040"/>
              <a:ext cx="1448640" cy="835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Oval 16"/>
            <p:cNvSpPr/>
            <p:nvPr/>
          </p:nvSpPr>
          <p:spPr>
            <a:xfrm>
              <a:off x="4927680" y="2438280"/>
              <a:ext cx="622440" cy="27936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X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omic Sans MS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AutoShape 17"/>
            <p:cNvCxnSpPr>
              <a:stCxn id="460" idx="4"/>
              <a:endCxn id="469" idx="0"/>
            </p:cNvCxnSpPr>
            <p:nvPr/>
          </p:nvCxnSpPr>
          <p:spPr>
            <a:xfrm>
              <a:off x="4552560" y="1589040"/>
              <a:ext cx="686520" cy="835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1" name="Text Box 18"/>
            <p:cNvSpPr/>
            <p:nvPr/>
          </p:nvSpPr>
          <p:spPr>
            <a:xfrm>
              <a:off x="4929480" y="274212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f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9"/>
            <p:cNvSpPr/>
            <p:nvPr/>
          </p:nvSpPr>
          <p:spPr>
            <a:xfrm>
              <a:off x="3072240" y="274212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sin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3987360" y="2742120"/>
              <a:ext cx="72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coug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1899000" y="274212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runnyn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22"/>
            <p:cNvSpPr/>
            <p:nvPr/>
          </p:nvSpPr>
          <p:spPr>
            <a:xfrm>
              <a:off x="5589360" y="2742120"/>
              <a:ext cx="129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Times New Roman (Hebrew)"/>
                </a:rPr>
                <a:t>muscle-a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907920" y="3071880"/>
                <a:ext cx="76266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⋯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Footer Placeholder 4"/>
          <p:cNvSpPr/>
          <p:nvPr/>
        </p:nvSpPr>
        <p:spPr>
          <a:xfrm>
            <a:off x="1295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moothing to Avoid Overfitt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1600200" y="1600200"/>
                <a:ext cx="60199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385560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yesian Unigram Prior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838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3276720" y="2971800"/>
            <a:ext cx="3200400" cy="533520"/>
          </a:xfrm>
          <a:prstGeom prst="wedgeRoundRectCallout">
            <a:avLst>
              <a:gd name="adj1" fmla="val 56101"/>
              <a:gd name="adj2" fmla="val -8779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values of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4200" y="4648320"/>
                <a:ext cx="7246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AutoShape 7"/>
          <p:cNvSpPr/>
          <p:nvPr/>
        </p:nvSpPr>
        <p:spPr>
          <a:xfrm>
            <a:off x="6172200" y="3733920"/>
            <a:ext cx="2819520" cy="914400"/>
          </a:xfrm>
          <a:prstGeom prst="wedgeRoundRectCallout">
            <a:avLst>
              <a:gd name="adj1" fmla="val 3717"/>
              <a:gd name="adj2" fmla="val 7795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raction in data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6324480" y="6019920"/>
            <a:ext cx="2819520" cy="838080"/>
          </a:xfrm>
          <a:prstGeom prst="wedgeRoundRectCallout">
            <a:avLst>
              <a:gd name="adj1" fmla="val -40486"/>
              <a:gd name="adj2" fmla="val -7518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685800" y="145728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685800" y="4191120"/>
            <a:ext cx="795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2" marL="1156680" indent="-31536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x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document containing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6680" indent="-315360"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wor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k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occurrences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x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occurrences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ll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1800"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Naïve Bayes: Learn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1706400"/>
            <a:ext cx="800100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raining corpus, extrac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lculate requir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| 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c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t of documents for which the target class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2104920" y="5626080"/>
                <a:ext cx="30387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←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Vocabulary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211480" y="3316320"/>
                <a:ext cx="25876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←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c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documen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Footer Placeholder 4"/>
          <p:cNvSpPr/>
          <p:nvPr/>
        </p:nvSpPr>
        <p:spPr>
          <a:xfrm>
            <a:off x="9144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Naïve Bayes: Classify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885680"/>
            <a:ext cx="8534520" cy="22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word positions in current document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contain tokens found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565280" y="4249800"/>
                <a:ext cx="5938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osition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6" name="Footer Placeholder 4"/>
          <p:cNvSpPr/>
          <p:nvPr/>
        </p:nvSpPr>
        <p:spPr>
          <a:xfrm>
            <a:off x="9144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Is this spam?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74" name="Content Placeholder 5" descr="spam.tiff"/>
          <p:cNvPicPr/>
          <p:nvPr/>
        </p:nvPicPr>
        <p:blipFill>
          <a:blip r:embed="rId1"/>
          <a:stretch/>
        </p:blipFill>
        <p:spPr>
          <a:xfrm>
            <a:off x="990720" y="2209680"/>
            <a:ext cx="7772400" cy="34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derflow Prevention: log sp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ying lots of probabilities, which are between 0 and 1 by definition, can result in floating-point under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is better to perform all computations by summing logs of probabilities rather than multiplying probabil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with highest final un-normalized log probability score is still the most prob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model is now just max of sum of weight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831960" y="4641840"/>
                <a:ext cx="7405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osition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0" name="Footer Placeholder 4"/>
          <p:cNvSpPr/>
          <p:nvPr/>
        </p:nvSpPr>
        <p:spPr>
          <a:xfrm>
            <a:off x="8380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17"/>
          <p:cNvSpPr/>
          <p:nvPr/>
        </p:nvSpPr>
        <p:spPr>
          <a:xfrm flipH="1">
            <a:off x="4597200" y="3505320"/>
            <a:ext cx="5079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Generative Model for Tex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1757160" y="5551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1793520" y="53150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779760" y="5300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7"/>
          <p:cNvGrpSpPr/>
          <p:nvPr/>
        </p:nvGrpSpPr>
        <p:grpSpPr>
          <a:xfrm>
            <a:off x="5257800" y="4414320"/>
            <a:ext cx="1742760" cy="1971720"/>
            <a:chOff x="5257800" y="4414320"/>
            <a:chExt cx="1742760" cy="1971720"/>
          </a:xfrm>
        </p:grpSpPr>
        <p:sp>
          <p:nvSpPr>
            <p:cNvPr id="507" name="Freeform 8"/>
            <p:cNvSpPr/>
            <p:nvPr/>
          </p:nvSpPr>
          <p:spPr>
            <a:xfrm>
              <a:off x="5257800" y="44254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 flipH="1">
              <a:off x="6128640" y="44193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0"/>
            <p:cNvSpPr/>
            <p:nvPr/>
          </p:nvSpPr>
          <p:spPr>
            <a:xfrm flipV="1">
              <a:off x="5532480" y="441432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1"/>
          <p:cNvGrpSpPr/>
          <p:nvPr/>
        </p:nvGrpSpPr>
        <p:grpSpPr>
          <a:xfrm>
            <a:off x="771480" y="4414320"/>
            <a:ext cx="1742760" cy="1971720"/>
            <a:chOff x="771480" y="4414320"/>
            <a:chExt cx="1742760" cy="1971720"/>
          </a:xfrm>
        </p:grpSpPr>
        <p:sp>
          <p:nvSpPr>
            <p:cNvPr id="511" name="Freeform 12"/>
            <p:cNvSpPr/>
            <p:nvPr/>
          </p:nvSpPr>
          <p:spPr>
            <a:xfrm>
              <a:off x="771480" y="442548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 flipH="1">
              <a:off x="1642320" y="441936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4"/>
            <p:cNvSpPr/>
            <p:nvPr/>
          </p:nvSpPr>
          <p:spPr>
            <a:xfrm flipV="1">
              <a:off x="1046160" y="441432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 Box 15"/>
          <p:cNvSpPr/>
          <p:nvPr/>
        </p:nvSpPr>
        <p:spPr>
          <a:xfrm>
            <a:off x="1099440" y="62960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5760000" y="6324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1043280" y="512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1365840" y="59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1474200" y="5794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4"/>
          <p:cNvSpPr/>
          <p:nvPr/>
        </p:nvSpPr>
        <p:spPr>
          <a:xfrm>
            <a:off x="840240" y="55450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1926720" y="50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1615680" y="5202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1321560" y="48625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6163200" y="5154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0"/>
          <p:cNvSpPr/>
          <p:nvPr/>
        </p:nvSpPr>
        <p:spPr>
          <a:xfrm>
            <a:off x="5987160" y="5965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1"/>
          <p:cNvSpPr/>
          <p:nvPr/>
        </p:nvSpPr>
        <p:spPr>
          <a:xfrm>
            <a:off x="5223600" y="5143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2"/>
          <p:cNvSpPr/>
          <p:nvPr/>
        </p:nvSpPr>
        <p:spPr>
          <a:xfrm>
            <a:off x="5477400" y="593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3"/>
          <p:cNvSpPr/>
          <p:nvPr/>
        </p:nvSpPr>
        <p:spPr>
          <a:xfrm>
            <a:off x="5772240" y="48639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4"/>
          <p:cNvSpPr/>
          <p:nvPr/>
        </p:nvSpPr>
        <p:spPr>
          <a:xfrm>
            <a:off x="5375520" y="53942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5"/>
          <p:cNvSpPr/>
          <p:nvPr/>
        </p:nvSpPr>
        <p:spPr>
          <a:xfrm>
            <a:off x="5436360" y="5672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6"/>
          <p:cNvSpPr/>
          <p:nvPr/>
        </p:nvSpPr>
        <p:spPr>
          <a:xfrm>
            <a:off x="5655960" y="44956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7"/>
          <p:cNvSpPr/>
          <p:nvPr/>
        </p:nvSpPr>
        <p:spPr>
          <a:xfrm>
            <a:off x="1213920" y="45687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8"/>
          <p:cNvSpPr/>
          <p:nvPr/>
        </p:nvSpPr>
        <p:spPr>
          <a:xfrm>
            <a:off x="5824440" y="54165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6238080" y="566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4"/>
          <p:cNvSpPr/>
          <p:nvPr/>
        </p:nvSpPr>
        <p:spPr>
          <a:xfrm>
            <a:off x="1082520" y="5811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65"/>
          <p:cNvGrpSpPr/>
          <p:nvPr/>
        </p:nvGrpSpPr>
        <p:grpSpPr>
          <a:xfrm>
            <a:off x="2895480" y="2676240"/>
            <a:ext cx="1742760" cy="1971720"/>
            <a:chOff x="2895480" y="2676240"/>
            <a:chExt cx="1742760" cy="1971720"/>
          </a:xfrm>
        </p:grpSpPr>
        <p:sp>
          <p:nvSpPr>
            <p:cNvPr id="536" name="Freeform 66"/>
            <p:cNvSpPr/>
            <p:nvPr/>
          </p:nvSpPr>
          <p:spPr>
            <a:xfrm>
              <a:off x="2895480" y="268740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"/>
            <p:cNvSpPr/>
            <p:nvPr/>
          </p:nvSpPr>
          <p:spPr>
            <a:xfrm flipH="1">
              <a:off x="3766320" y="268128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8"/>
            <p:cNvSpPr/>
            <p:nvPr/>
          </p:nvSpPr>
          <p:spPr>
            <a:xfrm flipV="1">
              <a:off x="3170160" y="26762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 Box 69"/>
          <p:cNvSpPr/>
          <p:nvPr/>
        </p:nvSpPr>
        <p:spPr>
          <a:xfrm>
            <a:off x="2943000" y="33368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0"/>
          <p:cNvSpPr/>
          <p:nvPr/>
        </p:nvSpPr>
        <p:spPr>
          <a:xfrm>
            <a:off x="3051720" y="3641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1"/>
          <p:cNvSpPr/>
          <p:nvPr/>
        </p:nvSpPr>
        <p:spPr>
          <a:xfrm>
            <a:off x="3019320" y="3946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3628800" y="3413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3"/>
          <p:cNvSpPr/>
          <p:nvPr/>
        </p:nvSpPr>
        <p:spPr>
          <a:xfrm>
            <a:off x="3475440" y="3108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4"/>
          <p:cNvSpPr/>
          <p:nvPr/>
        </p:nvSpPr>
        <p:spPr>
          <a:xfrm>
            <a:off x="3247920" y="2727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"/>
          <p:cNvSpPr/>
          <p:nvPr/>
        </p:nvSpPr>
        <p:spPr>
          <a:xfrm>
            <a:off x="3813480" y="3718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3356280" y="4175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7"/>
          <p:cNvSpPr/>
          <p:nvPr/>
        </p:nvSpPr>
        <p:spPr>
          <a:xfrm>
            <a:off x="3705120" y="4022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9"/>
          <p:cNvSpPr/>
          <p:nvPr/>
        </p:nvSpPr>
        <p:spPr>
          <a:xfrm>
            <a:off x="3040200" y="4648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6"/>
          <p:cNvSpPr/>
          <p:nvPr/>
        </p:nvSpPr>
        <p:spPr>
          <a:xfrm>
            <a:off x="1472760" y="579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27"/>
          <p:cNvSpPr/>
          <p:nvPr/>
        </p:nvSpPr>
        <p:spPr>
          <a:xfrm>
            <a:off x="1793520" y="53150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8"/>
          <p:cNvSpPr/>
          <p:nvPr/>
        </p:nvSpPr>
        <p:spPr>
          <a:xfrm>
            <a:off x="1043280" y="512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9"/>
          <p:cNvSpPr/>
          <p:nvPr/>
        </p:nvSpPr>
        <p:spPr>
          <a:xfrm>
            <a:off x="1926720" y="5054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2271600" y="661680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 Ray Mo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1371600" y="1701720"/>
                <a:ext cx="5486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ÎC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Î</m:t>
                        </m:r>
                        <m:r>
                          <m:rPr>
                            <m:lit/>
                            <m:nor/>
                          </m:rPr>
                          <m:t xml:space="preserve">position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5" name="Text Box 16"/>
          <p:cNvSpPr/>
          <p:nvPr/>
        </p:nvSpPr>
        <p:spPr>
          <a:xfrm>
            <a:off x="4978440" y="3352680"/>
            <a:ext cx="2793960" cy="58068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cla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ording to P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7"/>
          <p:cNvSpPr/>
          <p:nvPr/>
        </p:nvSpPr>
        <p:spPr>
          <a:xfrm flipH="1">
            <a:off x="2539800" y="5638680"/>
            <a:ext cx="81252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7"/>
          <p:cNvSpPr/>
          <p:nvPr/>
        </p:nvSpPr>
        <p:spPr>
          <a:xfrm flipH="1">
            <a:off x="6578640" y="4876920"/>
            <a:ext cx="81288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124080" y="5334120"/>
            <a:ext cx="1828800" cy="106740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hoose a word from that class with probability P(x|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7162920" y="4114800"/>
            <a:ext cx="1828800" cy="1554120"/>
          </a:xfrm>
          <a:prstGeom prst="rect">
            <a:avLst/>
          </a:prstGeom>
          <a:solidFill>
            <a:srgbClr val="ffcc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entially model probability of each class as class-specific unigram languag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78035E-008 C -0.01285 -0.02751 -0.02553 -0.05503 -0.03178 -0.08879 C -0.03803 -0.12254 -0.03716 -0.18405 -0.03803 -0.203 E">
                                      <p:cBhvr>
                                        <p:cTn id="14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5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3205E-006 -1.44975E-006 C -0.0085 -0.04678 -0.01665 -0.09287 -0.02151 -0.13316 C -0.02637 -0.17346 -0.01214 -0.21746 -0.02915 -0.24224 C -0.04581 -0.26748 -0.10723 -0.27605 -0.12268 -0.28277 E">
                                      <p:cBhvr>
                                        <p:cTn id="161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9 -1.01899E-006 C 0.02724 -0.02524 0.03141 -0.05025 0.03245 -0.0799 C 0.03366 -0.10931 0.03193 -0.15794 0.0295 -0.17716 C 0.02707 -0.19615 0.01995 -0.19175 0.01804 -0.195 E">
                                      <p:cBhvr>
                                        <p:cTn id="165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2948E-006 C -0.01545 -0.02197 -0.0309 -0.04393 -0.03958 -0.06544 C -0.04826 -0.08694 -0.05538 -0.10336 -0.05225 -0.12902 C -0.04913 -0.15468 -0.02552 -0.2044 -0.02048 -0.21989 E">
                                      <p:cBhvr>
                                        <p:cTn id="169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9191E-006 C -0.0191 -0.01989 -0.03819 -0.03954 -0.04444 -0.05919 C -0.05069 -0.07885 -0.05416 -0.09943 -0.03802 -0.11839 C -0.02187 -0.13734 0.03733 -0.1637 0.05243 -0.17318 E">
                                      <p:cBhvr>
                                        <p:cTn id="173" dur="5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and Language Mod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yes classifiers can use any sort of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, email address, diction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only word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all of the words in the text (not subs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Bayes bears similarity to language mod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ach class = Unigram language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79320" y="1676520"/>
            <a:ext cx="82360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o each word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o each sentenc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838080" y="2895480"/>
          <a:ext cx="2057400" cy="34290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|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adb8ff"/>
                    </a:solidFill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3429000" y="3868560"/>
          <a:ext cx="5486400" cy="74160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8720"/>
                <a:gridCol w="1096920"/>
                <a:gridCol w="1096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Box 6"/>
          <p:cNvSpPr/>
          <p:nvPr/>
        </p:nvSpPr>
        <p:spPr>
          <a:xfrm>
            <a:off x="53341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00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Language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asses: in language, out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838080" y="2895480"/>
          <a:ext cx="2057400" cy="34290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571680">
                <a:tc gridSpan="2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 w="4320">
                      <a:solidFill>
                        <a:srgbClr val="008a00"/>
                      </a:solidFill>
                    </a:lnR>
                    <a:lnT w="4320">
                      <a:solidFill>
                        <a:srgbClr val="008a00"/>
                      </a:solidFill>
                    </a:lnT>
                    <a:lnB>
                      <a:noFill/>
                    </a:lnB>
                    <a:solidFill>
                      <a:srgbClr val="008a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8a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l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8a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8a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8a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8a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8a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8a00"/>
                      </a:solidFill>
                    </a:lnR>
                    <a:lnT>
                      <a:noFill/>
                    </a:lnT>
                    <a:lnB w="4320">
                      <a:solidFill>
                        <a:srgbClr val="008a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3048120" y="2890800"/>
          <a:ext cx="2057400" cy="342900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71680">
                <a:tc gridSpan="2"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334120" y="3868560"/>
          <a:ext cx="3809880" cy="11131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TextBox 6"/>
          <p:cNvSpPr/>
          <p:nvPr/>
        </p:nvSpPr>
        <p:spPr>
          <a:xfrm>
            <a:off x="5638680" y="5562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Naïve Bayes Classification 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4" name="Text Box 62"/>
          <p:cNvSpPr/>
          <p:nvPr/>
        </p:nvSpPr>
        <p:spPr>
          <a:xfrm>
            <a:off x="2280960" y="532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3"/>
          <p:cNvSpPr/>
          <p:nvPr/>
        </p:nvSpPr>
        <p:spPr>
          <a:xfrm>
            <a:off x="2327040" y="5091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4"/>
          <p:cNvSpPr/>
          <p:nvPr/>
        </p:nvSpPr>
        <p:spPr>
          <a:xfrm>
            <a:off x="1303560" y="5076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65"/>
          <p:cNvGrpSpPr/>
          <p:nvPr/>
        </p:nvGrpSpPr>
        <p:grpSpPr>
          <a:xfrm>
            <a:off x="6095880" y="4190760"/>
            <a:ext cx="1742760" cy="1971720"/>
            <a:chOff x="6095880" y="4190760"/>
            <a:chExt cx="1742760" cy="1971720"/>
          </a:xfrm>
        </p:grpSpPr>
        <p:sp>
          <p:nvSpPr>
            <p:cNvPr id="578" name="Freeform 66"/>
            <p:cNvSpPr/>
            <p:nvPr/>
          </p:nvSpPr>
          <p:spPr>
            <a:xfrm>
              <a:off x="6095880" y="42019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"/>
            <p:cNvSpPr/>
            <p:nvPr/>
          </p:nvSpPr>
          <p:spPr>
            <a:xfrm flipH="1">
              <a:off x="6966720" y="41958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68"/>
            <p:cNvSpPr/>
            <p:nvPr/>
          </p:nvSpPr>
          <p:spPr>
            <a:xfrm flipV="1">
              <a:off x="6370560" y="419076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9"/>
          <p:cNvGrpSpPr/>
          <p:nvPr/>
        </p:nvGrpSpPr>
        <p:grpSpPr>
          <a:xfrm>
            <a:off x="1295280" y="4190760"/>
            <a:ext cx="1742760" cy="1971720"/>
            <a:chOff x="1295280" y="4190760"/>
            <a:chExt cx="1742760" cy="1971720"/>
          </a:xfrm>
        </p:grpSpPr>
        <p:sp>
          <p:nvSpPr>
            <p:cNvPr id="582" name="Freeform 70"/>
            <p:cNvSpPr/>
            <p:nvPr/>
          </p:nvSpPr>
          <p:spPr>
            <a:xfrm>
              <a:off x="1295280" y="420192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1"/>
            <p:cNvSpPr/>
            <p:nvPr/>
          </p:nvSpPr>
          <p:spPr>
            <a:xfrm flipH="1">
              <a:off x="2166120" y="419580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72"/>
            <p:cNvSpPr/>
            <p:nvPr/>
          </p:nvSpPr>
          <p:spPr>
            <a:xfrm flipV="1">
              <a:off x="1569960" y="4190760"/>
              <a:ext cx="12067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73"/>
          <p:cNvSpPr/>
          <p:nvPr/>
        </p:nvSpPr>
        <p:spPr>
          <a:xfrm>
            <a:off x="1623240" y="60721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4"/>
          <p:cNvSpPr/>
          <p:nvPr/>
        </p:nvSpPr>
        <p:spPr>
          <a:xfrm>
            <a:off x="6598080" y="61009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5"/>
          <p:cNvSpPr/>
          <p:nvPr/>
        </p:nvSpPr>
        <p:spPr>
          <a:xfrm>
            <a:off x="1567440" y="4900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6"/>
          <p:cNvSpPr/>
          <p:nvPr/>
        </p:nvSpPr>
        <p:spPr>
          <a:xfrm>
            <a:off x="1889640" y="574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7"/>
          <p:cNvSpPr/>
          <p:nvPr/>
        </p:nvSpPr>
        <p:spPr>
          <a:xfrm>
            <a:off x="1998360" y="5570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8"/>
          <p:cNvSpPr/>
          <p:nvPr/>
        </p:nvSpPr>
        <p:spPr>
          <a:xfrm>
            <a:off x="1364040" y="5321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9"/>
          <p:cNvSpPr/>
          <p:nvPr/>
        </p:nvSpPr>
        <p:spPr>
          <a:xfrm>
            <a:off x="2450520" y="4826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0"/>
          <p:cNvSpPr/>
          <p:nvPr/>
        </p:nvSpPr>
        <p:spPr>
          <a:xfrm>
            <a:off x="2139840" y="497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1"/>
          <p:cNvSpPr/>
          <p:nvPr/>
        </p:nvSpPr>
        <p:spPr>
          <a:xfrm>
            <a:off x="1845360" y="46386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2"/>
          <p:cNvSpPr/>
          <p:nvPr/>
        </p:nvSpPr>
        <p:spPr>
          <a:xfrm>
            <a:off x="7001640" y="4930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3"/>
          <p:cNvSpPr/>
          <p:nvPr/>
        </p:nvSpPr>
        <p:spPr>
          <a:xfrm>
            <a:off x="6825600" y="574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4"/>
          <p:cNvSpPr/>
          <p:nvPr/>
        </p:nvSpPr>
        <p:spPr>
          <a:xfrm>
            <a:off x="6062040" y="49197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5"/>
          <p:cNvSpPr/>
          <p:nvPr/>
        </p:nvSpPr>
        <p:spPr>
          <a:xfrm>
            <a:off x="6315480" y="57070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6"/>
          <p:cNvSpPr/>
          <p:nvPr/>
        </p:nvSpPr>
        <p:spPr>
          <a:xfrm>
            <a:off x="6610680" y="4640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7"/>
          <p:cNvSpPr/>
          <p:nvPr/>
        </p:nvSpPr>
        <p:spPr>
          <a:xfrm>
            <a:off x="6213600" y="5170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8"/>
          <p:cNvSpPr/>
          <p:nvPr/>
        </p:nvSpPr>
        <p:spPr>
          <a:xfrm>
            <a:off x="6274440" y="5448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9"/>
          <p:cNvSpPr/>
          <p:nvPr/>
        </p:nvSpPr>
        <p:spPr>
          <a:xfrm>
            <a:off x="6494040" y="4272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1737720" y="4344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1"/>
          <p:cNvSpPr/>
          <p:nvPr/>
        </p:nvSpPr>
        <p:spPr>
          <a:xfrm>
            <a:off x="6662520" y="5192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2"/>
          <p:cNvSpPr/>
          <p:nvPr/>
        </p:nvSpPr>
        <p:spPr>
          <a:xfrm>
            <a:off x="7076160" y="54421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3"/>
          <p:cNvSpPr/>
          <p:nvPr/>
        </p:nvSpPr>
        <p:spPr>
          <a:xfrm>
            <a:off x="1606320" y="558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94"/>
          <p:cNvGrpSpPr/>
          <p:nvPr/>
        </p:nvGrpSpPr>
        <p:grpSpPr>
          <a:xfrm>
            <a:off x="3657600" y="2742840"/>
            <a:ext cx="1742760" cy="1971720"/>
            <a:chOff x="3657600" y="2742840"/>
            <a:chExt cx="1742760" cy="1971720"/>
          </a:xfrm>
        </p:grpSpPr>
        <p:sp>
          <p:nvSpPr>
            <p:cNvPr id="607" name="Freeform 95"/>
            <p:cNvSpPr/>
            <p:nvPr/>
          </p:nvSpPr>
          <p:spPr>
            <a:xfrm>
              <a:off x="3657600" y="2754000"/>
              <a:ext cx="871560" cy="196056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6"/>
            <p:cNvSpPr/>
            <p:nvPr/>
          </p:nvSpPr>
          <p:spPr>
            <a:xfrm flipH="1">
              <a:off x="4528440" y="2747880"/>
              <a:ext cx="871560" cy="1960560"/>
            </a:xfrm>
            <a:custGeom>
              <a:avLst/>
              <a:gdLst>
                <a:gd name="textAreaLeft" fmla="*/ -360 w 871560"/>
                <a:gd name="textAreaRight" fmla="*/ 871560 w 87156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549" h="1235">
                  <a:moveTo>
                    <a:pt x="157" y="0"/>
                  </a:moveTo>
                  <a:cubicBezTo>
                    <a:pt x="212" y="33"/>
                    <a:pt x="268" y="66"/>
                    <a:pt x="295" y="108"/>
                  </a:cubicBezTo>
                  <a:cubicBezTo>
                    <a:pt x="322" y="150"/>
                    <a:pt x="326" y="209"/>
                    <a:pt x="318" y="254"/>
                  </a:cubicBezTo>
                  <a:cubicBezTo>
                    <a:pt x="310" y="299"/>
                    <a:pt x="287" y="336"/>
                    <a:pt x="249" y="377"/>
                  </a:cubicBezTo>
                  <a:cubicBezTo>
                    <a:pt x="211" y="418"/>
                    <a:pt x="126" y="453"/>
                    <a:pt x="88" y="500"/>
                  </a:cubicBezTo>
                  <a:cubicBezTo>
                    <a:pt x="50" y="547"/>
                    <a:pt x="30" y="601"/>
                    <a:pt x="19" y="661"/>
                  </a:cubicBezTo>
                  <a:cubicBezTo>
                    <a:pt x="8" y="721"/>
                    <a:pt x="0" y="796"/>
                    <a:pt x="19" y="861"/>
                  </a:cubicBezTo>
                  <a:cubicBezTo>
                    <a:pt x="38" y="926"/>
                    <a:pt x="97" y="996"/>
                    <a:pt x="134" y="1053"/>
                  </a:cubicBezTo>
                  <a:cubicBezTo>
                    <a:pt x="171" y="1110"/>
                    <a:pt x="172" y="1177"/>
                    <a:pt x="241" y="1206"/>
                  </a:cubicBezTo>
                  <a:cubicBezTo>
                    <a:pt x="310" y="1235"/>
                    <a:pt x="498" y="1227"/>
                    <a:pt x="549" y="122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7"/>
            <p:cNvSpPr/>
            <p:nvPr/>
          </p:nvSpPr>
          <p:spPr>
            <a:xfrm flipV="1">
              <a:off x="3932280" y="2742840"/>
              <a:ext cx="120672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98"/>
          <p:cNvSpPr/>
          <p:nvPr/>
        </p:nvSpPr>
        <p:spPr>
          <a:xfrm>
            <a:off x="3705120" y="34290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9"/>
          <p:cNvSpPr/>
          <p:nvPr/>
        </p:nvSpPr>
        <p:spPr>
          <a:xfrm>
            <a:off x="3813480" y="3733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0"/>
          <p:cNvSpPr/>
          <p:nvPr/>
        </p:nvSpPr>
        <p:spPr>
          <a:xfrm>
            <a:off x="3781440" y="4038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1"/>
          <p:cNvSpPr/>
          <p:nvPr/>
        </p:nvSpPr>
        <p:spPr>
          <a:xfrm>
            <a:off x="4390920" y="35053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2"/>
          <p:cNvSpPr/>
          <p:nvPr/>
        </p:nvSpPr>
        <p:spPr>
          <a:xfrm>
            <a:off x="4237560" y="320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3"/>
          <p:cNvSpPr/>
          <p:nvPr/>
        </p:nvSpPr>
        <p:spPr>
          <a:xfrm>
            <a:off x="4010040" y="28195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4"/>
          <p:cNvSpPr/>
          <p:nvPr/>
        </p:nvSpPr>
        <p:spPr>
          <a:xfrm>
            <a:off x="4575600" y="3809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5"/>
          <p:cNvSpPr/>
          <p:nvPr/>
        </p:nvSpPr>
        <p:spPr>
          <a:xfrm>
            <a:off x="411840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6"/>
          <p:cNvSpPr/>
          <p:nvPr/>
        </p:nvSpPr>
        <p:spPr>
          <a:xfrm>
            <a:off x="446724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7"/>
          <p:cNvSpPr/>
          <p:nvPr/>
        </p:nvSpPr>
        <p:spPr>
          <a:xfrm>
            <a:off x="3801960" y="4675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8"/>
          <p:cNvSpPr/>
          <p:nvPr/>
        </p:nvSpPr>
        <p:spPr>
          <a:xfrm>
            <a:off x="3466800" y="152388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 lotttery $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09"/>
          <p:cNvGrpSpPr/>
          <p:nvPr/>
        </p:nvGrpSpPr>
        <p:grpSpPr>
          <a:xfrm>
            <a:off x="2666880" y="1828800"/>
            <a:ext cx="3638160" cy="1864800"/>
            <a:chOff x="2666880" y="1828800"/>
            <a:chExt cx="3638160" cy="1864800"/>
          </a:xfrm>
        </p:grpSpPr>
        <p:sp>
          <p:nvSpPr>
            <p:cNvPr id="622" name="Line 110"/>
            <p:cNvSpPr/>
            <p:nvPr/>
          </p:nvSpPr>
          <p:spPr>
            <a:xfrm flipV="1">
              <a:off x="2666880" y="2133000"/>
              <a:ext cx="1242720" cy="1560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11"/>
            <p:cNvSpPr/>
            <p:nvPr/>
          </p:nvSpPr>
          <p:spPr>
            <a:xfrm flipH="1" flipV="1">
              <a:off x="5062320" y="2065320"/>
              <a:ext cx="1242720" cy="1560240"/>
            </a:xfrm>
            <a:prstGeom prst="line">
              <a:avLst/>
            </a:prstGeom>
            <a:ln w="7632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12"/>
            <p:cNvSpPr/>
            <p:nvPr/>
          </p:nvSpPr>
          <p:spPr>
            <a:xfrm>
              <a:off x="3764160" y="1828800"/>
              <a:ext cx="146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?     ?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Footer Placeholder 4"/>
          <p:cNvSpPr/>
          <p:nvPr/>
        </p:nvSpPr>
        <p:spPr>
          <a:xfrm>
            <a:off x="12952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aïve Bayes Text Classification Exampl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09120" y="152352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ing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ocabulary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= {Chinese, Beijing, Shanghai, Macao, Tokyo, Japan} and |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| = 6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= 3/4 and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~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= 1/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Chinese|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= (5+1) / (8+6) = 6/14 = 3/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Chinese|~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= (1+1) / (3+6) = 2/9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(Tokyo|c) = P(Japan|c) = (0+1)/(8+6) =1/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(Chinese|~c) = (1+1)/(3+6) = 2/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(Tokyo|~c) = p(Japan|~c) = (1+1/)3+6) = 2/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038480" cy="17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PMingLiU"/>
              </a:rPr>
              <a:t>Test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|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)      3/4 * (3/7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  <a:ea typeface="PMingLiU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 * 1/14 * 1/14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≈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0.0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(~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|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)     1/4 * (2/9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  <a:ea typeface="PMingLiU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 * 2/9 * 2/9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≈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PMingLiU"/>
              </a:rPr>
              <a:t>0.00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2"/>
              <p:cNvSpPr txBox="1"/>
              <p:nvPr/>
            </p:nvSpPr>
            <p:spPr>
              <a:xfrm>
                <a:off x="6095880" y="1717560"/>
                <a:ext cx="2239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3"/>
              <p:cNvSpPr txBox="1"/>
              <p:nvPr/>
            </p:nvSpPr>
            <p:spPr>
              <a:xfrm>
                <a:off x="6173640" y="2401920"/>
                <a:ext cx="22716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1" name="Footer Placeholder 4"/>
          <p:cNvSpPr/>
          <p:nvPr/>
        </p:nvSpPr>
        <p:spPr>
          <a:xfrm>
            <a:off x="1523880" y="662940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 Chien Chin 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143000" y="4618080"/>
          <a:ext cx="7162920" cy="2011320"/>
        </p:xfrm>
        <a:graphic>
          <a:graphicData uri="http://schemas.openxmlformats.org/drawingml/2006/table">
            <a:tbl>
              <a:tblPr/>
              <a:tblGrid>
                <a:gridCol w="1074600"/>
                <a:gridCol w="677880"/>
                <a:gridCol w="426744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adb8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 Bejing 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 Chinese Shangh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 Ma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yo Japan 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 Chinese Chinese Tokyo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5646600" y="3249720"/>
                <a:ext cx="12826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2"/>
              <p:cNvSpPr txBox="1"/>
              <p:nvPr/>
            </p:nvSpPr>
            <p:spPr>
              <a:xfrm>
                <a:off x="5638680" y="3848040"/>
                <a:ext cx="2138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Text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6002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ïve Bayes algorithm – training ph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1177920" y="66294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lide from Chien Chin 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200240" y="2152800"/>
            <a:ext cx="6877080" cy="45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TrainMultinomialN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Extract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CountDo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CountDocsIn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ex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TextOfAllDocsIn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PMingLiU"/>
              </a:rPr>
              <a:t>CountOccurrencesOfTe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, tex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ondpr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]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+1) / ∑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t’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condpr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Text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ïve Bayes algorithm – testing ph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1295280" y="655632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ien Chin 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971640" y="2421000"/>
            <a:ext cx="6337080" cy="25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lyMultinomialN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dPr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ractTokensFromD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+= lo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pr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arg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ng Categor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must be done on test data that a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raining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a disjoint set of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lassification accur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total number of test instances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number of test instances correctly classified by the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quate if one class per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 vary based on sampling error due to different training and test se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results over multiple training and test sets (splits of the overall data) for the best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1371600" y="65674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Applications of Text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4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orship iden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/gender iden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den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ing topics such as Yahoo-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, "finance," "sports," "news&gt;world&gt;asia&gt;business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re-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, "editorials" "movie-reviews" "news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inion/sentiment analysis on a person/pro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, “like”, “hate”, “neutr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bels may be domain-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, “contains adult language” : “doesn’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asuring Perform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30720" y="1836720"/>
            <a:ext cx="401328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ecis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messages ke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all messages k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cal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messages ke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ll good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5257800" y="4648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5257800" y="27432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708120" y="5200560"/>
            <a:ext cx="8359560" cy="1191240"/>
          </a:xfrm>
          <a:prstGeom prst="rect">
            <a:avLst/>
          </a:prstGeom>
          <a:solidFill>
            <a:srgbClr val="b8ffb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off precision vs. recall by setting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he curve on annotated dev data (or test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threshold where user is 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2"/>
          <p:cNvGraphicFramePr/>
          <p:nvPr/>
        </p:nvGraphicFramePr>
        <p:xfrm>
          <a:off x="708120" y="1684440"/>
          <a:ext cx="4371840" cy="34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1684440"/>
                    <a:ext cx="437184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Footer Placeholder 3"/>
          <p:cNvSpPr/>
          <p:nvPr/>
        </p:nvSpPr>
        <p:spPr>
          <a:xfrm>
            <a:off x="1143000" y="656280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Jason Eis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asuring Perform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5" name="Footer Placeholder 2"/>
          <p:cNvSpPr/>
          <p:nvPr/>
        </p:nvSpPr>
        <p:spPr>
          <a:xfrm>
            <a:off x="70102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from Jason Eis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2"/>
          <p:cNvGraphicFramePr/>
          <p:nvPr/>
        </p:nvGraphicFramePr>
        <p:xfrm>
          <a:off x="76320" y="1447920"/>
          <a:ext cx="691488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47920"/>
                    <a:ext cx="6914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9"/>
          <p:cNvSpPr/>
          <p:nvPr/>
        </p:nvSpPr>
        <p:spPr>
          <a:xfrm>
            <a:off x="3405240" y="4267080"/>
            <a:ext cx="360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low thresho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eep all the good stuff,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ut a lot of the bad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1447920" y="248436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igh threshol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all we keep is goo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but we don’t keep m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7"/>
          <p:cNvGrpSpPr/>
          <p:nvPr/>
        </p:nvGrpSpPr>
        <p:grpSpPr>
          <a:xfrm>
            <a:off x="6216480" y="4313160"/>
            <a:ext cx="2927520" cy="1891800"/>
            <a:chOff x="6216480" y="4313160"/>
            <a:chExt cx="2927520" cy="1891800"/>
          </a:xfrm>
        </p:grpSpPr>
        <p:sp>
          <p:nvSpPr>
            <p:cNvPr id="661" name="Freeform 12"/>
            <p:cNvSpPr/>
            <p:nvPr/>
          </p:nvSpPr>
          <p:spPr>
            <a:xfrm>
              <a:off x="6216480" y="4313160"/>
              <a:ext cx="1760760" cy="725400"/>
            </a:xfrm>
            <a:custGeom>
              <a:avLst/>
              <a:gdLst>
                <a:gd name="textAreaLeft" fmla="*/ 0 w 1760760"/>
                <a:gd name="textAreaRight" fmla="*/ 1761120 w 17607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1109" h="457">
                  <a:moveTo>
                    <a:pt x="1109" y="457"/>
                  </a:moveTo>
                  <a:cubicBezTo>
                    <a:pt x="1045" y="397"/>
                    <a:pt x="908" y="168"/>
                    <a:pt x="723" y="96"/>
                  </a:cubicBezTo>
                  <a:cubicBezTo>
                    <a:pt x="566" y="0"/>
                    <a:pt x="151" y="37"/>
                    <a:pt x="0" y="22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3"/>
            <p:cNvSpPr/>
            <p:nvPr/>
          </p:nvSpPr>
          <p:spPr>
            <a:xfrm>
              <a:off x="7162920" y="5105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ff"/>
                  </a:solidFill>
                  <a:latin typeface="Times New Roman"/>
                </a:rPr>
                <a:t>OK for spam filtering and legal sear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24"/>
          <p:cNvGrpSpPr/>
          <p:nvPr/>
        </p:nvGrpSpPr>
        <p:grpSpPr>
          <a:xfrm>
            <a:off x="4448160" y="1600200"/>
            <a:ext cx="3429000" cy="1371600"/>
            <a:chOff x="4448160" y="1600200"/>
            <a:chExt cx="3429000" cy="1371600"/>
          </a:xfrm>
        </p:grpSpPr>
        <p:sp>
          <p:nvSpPr>
            <p:cNvPr id="664" name="Freeform 16"/>
            <p:cNvSpPr/>
            <p:nvPr/>
          </p:nvSpPr>
          <p:spPr>
            <a:xfrm>
              <a:off x="4448160" y="2286000"/>
              <a:ext cx="1904760" cy="6858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200" h="432">
                  <a:moveTo>
                    <a:pt x="1200" y="0"/>
                  </a:moveTo>
                  <a:cubicBezTo>
                    <a:pt x="1166" y="38"/>
                    <a:pt x="1194" y="155"/>
                    <a:pt x="994" y="227"/>
                  </a:cubicBezTo>
                  <a:cubicBezTo>
                    <a:pt x="794" y="299"/>
                    <a:pt x="207" y="389"/>
                    <a:pt x="0" y="432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7"/>
            <p:cNvSpPr/>
            <p:nvPr/>
          </p:nvSpPr>
          <p:spPr>
            <a:xfrm>
              <a:off x="5667120" y="1600200"/>
              <a:ext cx="221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ff"/>
                  </a:solidFill>
                  <a:latin typeface="Times New Roman"/>
                </a:rPr>
                <a:t>OK for search engines (mayb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26"/>
          <p:cNvSpPr/>
          <p:nvPr/>
        </p:nvSpPr>
        <p:spPr>
          <a:xfrm>
            <a:off x="6413400" y="25988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3"/>
          <p:cNvSpPr/>
          <p:nvPr/>
        </p:nvSpPr>
        <p:spPr>
          <a:xfrm>
            <a:off x="5410080" y="2949480"/>
            <a:ext cx="1041480" cy="860400"/>
          </a:xfrm>
          <a:custGeom>
            <a:avLst/>
            <a:gdLst>
              <a:gd name="textAreaLeft" fmla="*/ 0 w 1041480"/>
              <a:gd name="textAreaRight" fmla="*/ 1041480 w 104148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656" h="542">
                <a:moveTo>
                  <a:pt x="0" y="3"/>
                </a:moveTo>
                <a:cubicBezTo>
                  <a:pt x="29" y="7"/>
                  <a:pt x="100" y="0"/>
                  <a:pt x="172" y="28"/>
                </a:cubicBezTo>
                <a:cubicBezTo>
                  <a:pt x="244" y="56"/>
                  <a:pt x="365" y="119"/>
                  <a:pt x="429" y="169"/>
                </a:cubicBezTo>
                <a:cubicBezTo>
                  <a:pt x="517" y="230"/>
                  <a:pt x="520" y="266"/>
                  <a:pt x="558" y="328"/>
                </a:cubicBezTo>
                <a:cubicBezTo>
                  <a:pt x="596" y="390"/>
                  <a:pt x="636" y="497"/>
                  <a:pt x="656" y="542"/>
                </a:cubicBezTo>
              </a:path>
            </a:pathLst>
          </a:custGeom>
          <a:noFill/>
          <a:ln w="2844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4"/>
          <p:cNvGrpSpPr/>
          <p:nvPr/>
        </p:nvGrpSpPr>
        <p:grpSpPr>
          <a:xfrm>
            <a:off x="6324120" y="2514600"/>
            <a:ext cx="2819520" cy="764280"/>
            <a:chOff x="6324120" y="2514600"/>
            <a:chExt cx="2819520" cy="764280"/>
          </a:xfrm>
        </p:grpSpPr>
        <p:sp>
          <p:nvSpPr>
            <p:cNvPr id="669" name="Rectangle 29"/>
            <p:cNvSpPr/>
            <p:nvPr/>
          </p:nvSpPr>
          <p:spPr>
            <a:xfrm>
              <a:off x="7189560" y="2514600"/>
              <a:ext cx="195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ff"/>
                  </a:solidFill>
                  <a:latin typeface="Times New Roman"/>
                </a:rPr>
                <a:t>would prefer to be here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0"/>
            <p:cNvSpPr/>
            <p:nvPr/>
          </p:nvSpPr>
          <p:spPr>
            <a:xfrm flipH="1">
              <a:off x="6324120" y="2971800"/>
              <a:ext cx="102780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42"/>
          <p:cNvGrpSpPr/>
          <p:nvPr/>
        </p:nvGrpSpPr>
        <p:grpSpPr>
          <a:xfrm>
            <a:off x="1479600" y="3511440"/>
            <a:ext cx="3481200" cy="1748880"/>
            <a:chOff x="1479600" y="3511440"/>
            <a:chExt cx="3481200" cy="1748880"/>
          </a:xfrm>
        </p:grpSpPr>
        <p:sp>
          <p:nvSpPr>
            <p:cNvPr id="672" name="Freeform 40"/>
            <p:cNvSpPr/>
            <p:nvPr/>
          </p:nvSpPr>
          <p:spPr>
            <a:xfrm>
              <a:off x="3443400" y="3511440"/>
              <a:ext cx="1517400" cy="84636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956" h="533">
                  <a:moveTo>
                    <a:pt x="0" y="533"/>
                  </a:moveTo>
                  <a:cubicBezTo>
                    <a:pt x="159" y="444"/>
                    <a:pt x="797" y="89"/>
                    <a:pt x="956" y="0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1"/>
            <p:cNvSpPr/>
            <p:nvPr/>
          </p:nvSpPr>
          <p:spPr>
            <a:xfrm>
              <a:off x="1479600" y="4160880"/>
              <a:ext cx="225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ff"/>
                  </a:solidFill>
                  <a:latin typeface="Times New Roman"/>
                </a:rPr>
                <a:t>point w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ff"/>
                  </a:solidFill>
                  <a:latin typeface="Times New Roman"/>
                </a:rPr>
                <a:t>precision=recal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ff"/>
                  </a:solidFill>
                  <a:latin typeface="Times New Roman"/>
                </a:rPr>
                <a:t>(often reported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2-by-2 contingency tab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71600" y="2666880"/>
          <a:ext cx="6095880" cy="111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r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 w="4320">
                      <a:solidFill>
                        <a:srgbClr val="a7b2fb"/>
                      </a:solidFill>
                    </a:lnT>
                    <a:lnB>
                      <a:noFill/>
                    </a:lnB>
                    <a:solidFill>
                      <a:srgbClr val="adb8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a7b2f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7b2fb"/>
                      </a:solidFill>
                    </a:lnR>
                    <a:lnT>
                      <a:noFill/>
                    </a:lnT>
                    <a:lnB w="4320">
                      <a:solidFill>
                        <a:srgbClr val="a7b2f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ecision and Recal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: % of selected items that are cor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% of correct items that are sel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TextBox 3" descr=""/>
          <p:cNvPicPr/>
          <p:nvPr/>
        </p:nvPicPr>
        <p:blipFill>
          <a:blip r:embed="rId1"/>
          <a:stretch/>
        </p:blipFill>
        <p:spPr>
          <a:xfrm>
            <a:off x="3170160" y="3127320"/>
            <a:ext cx="2803680" cy="731880"/>
          </a:xfrm>
          <a:prstGeom prst="rect">
            <a:avLst/>
          </a:prstGeom>
          <a:ln w="0">
            <a:noFill/>
          </a:ln>
        </p:spPr>
      </p:pic>
      <p:pic>
        <p:nvPicPr>
          <p:cNvPr id="679" name="TextBox 4" descr=""/>
          <p:cNvPicPr/>
          <p:nvPr/>
        </p:nvPicPr>
        <p:blipFill>
          <a:blip r:embed="rId2"/>
          <a:stretch/>
        </p:blipFill>
        <p:spPr>
          <a:xfrm>
            <a:off x="3157560" y="4462560"/>
            <a:ext cx="2365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Combined measure: F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 measure assesses the P/R tradeoff, through the weighted harmonic mea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TextBox 6" descr=""/>
          <p:cNvPicPr/>
          <p:nvPr/>
        </p:nvPicPr>
        <p:blipFill>
          <a:blip r:embed="rId1"/>
          <a:stretch/>
        </p:blipFill>
        <p:spPr>
          <a:xfrm>
            <a:off x="3456000" y="3584520"/>
            <a:ext cx="2152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ulticlass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&gt; 2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lass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binary classifie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istinguish c from ~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test document 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membership in each class using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d to each class c for which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cro- vs. Macro-Averag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more than one class, how do we combine multiple performance measures into  one qua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avera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ute performance for each class, then a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avera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lect decision for all classes, compute contingency table, evalu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0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More Complicated Cases of Measuring Perform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59880" y="16002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multiclass classifie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accuracy (or precision or recall) of 2-way distinctions: Sports or not, News or not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, estimate the cost of differ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how bad is each of the following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ting Sports articles in the News 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ting Fashion articles in the News 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ting News articles in the Fashion 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 tune system to minimize total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r ranking syste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e with human ranking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active feedback from us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user’s wasted time by tracking clic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1523880" y="655308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Jason Eis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4267080" y="4724280"/>
            <a:ext cx="48769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Which articles are </a:t>
            </a:r>
            <a:r>
              <a:rPr b="0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most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Sports-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Which articles / webpages </a:t>
            </a:r>
            <a:r>
              <a:rPr b="0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most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relev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on Benchmar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uters-21578 Data S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(over)used data set, 21,578 docs (each 90 types, 200 token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603 training, 3299 test articles (ModApte/Lewis spli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8 categ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rticle can be in more than one catego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118 binary category distin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 document (with at least one category) has 1.24 clas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about 10 out of 118 categories are lar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ing siz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633680"/>
            <a:ext cx="7772400" cy="11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e the better! (usuall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for text classific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685800" y="632448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rom: Improving the Performance of Naive Bayes for Text Classification, Shen and Yang, Slide from Nakov/Hearst/Ros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" descr="train_size1"/>
          <p:cNvPicPr/>
          <p:nvPr/>
        </p:nvPicPr>
        <p:blipFill>
          <a:blip r:embed="rId1"/>
          <a:stretch/>
        </p:blipFill>
        <p:spPr>
          <a:xfrm>
            <a:off x="2276640" y="2552760"/>
            <a:ext cx="4429080" cy="3390840"/>
          </a:xfrm>
          <a:prstGeom prst="rect">
            <a:avLst/>
          </a:prstGeom>
          <a:ln w="0">
            <a:noFill/>
          </a:ln>
        </p:spPr>
      </p:pic>
      <p:sp>
        <p:nvSpPr>
          <p:cNvPr id="697" name="TextBox 6"/>
          <p:cNvSpPr/>
          <p:nvPr/>
        </p:nvSpPr>
        <p:spPr>
          <a:xfrm>
            <a:off x="685800" y="600084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error vs training size on the newsgroups rec.sport.baseball and rec.sport.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ext Classification: defin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ifie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docum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predicted cla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some fixed set of label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...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rn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pu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-labeled documen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,....,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utpu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earned classifi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1143000" y="654372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William Co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raining siz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685800" y="632448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rom: Improving the Performance of Naive Bayes for Text Classification, Shen and Yang, Slide from Nakov/Hearst/Ros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4" descr="train_size2"/>
          <p:cNvPicPr/>
          <p:nvPr/>
        </p:nvPicPr>
        <p:blipFill>
          <a:blip r:embed="rId1"/>
          <a:stretch/>
        </p:blipFill>
        <p:spPr>
          <a:xfrm>
            <a:off x="2197080" y="1611360"/>
            <a:ext cx="4838760" cy="380988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"/>
          <p:cNvSpPr/>
          <p:nvPr/>
        </p:nvSpPr>
        <p:spPr>
          <a:xfrm>
            <a:off x="917640" y="5695920"/>
            <a:ext cx="80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error vs training size on the newsgroups alt.atheism and talk.religion.m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raining siz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3" name="Footer Placeholder 3"/>
          <p:cNvSpPr/>
          <p:nvPr/>
        </p:nvSpPr>
        <p:spPr>
          <a:xfrm>
            <a:off x="609480" y="632448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rom: Improving the Performance of Naive Bayes for Text Classification, Shen and Yang, Slide from Nakov/Hearst/Ros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6" descr="train_size3"/>
          <p:cNvPicPr/>
          <p:nvPr/>
        </p:nvPicPr>
        <p:blipFill>
          <a:blip r:embed="rId1"/>
          <a:stretch/>
        </p:blipFill>
        <p:spPr>
          <a:xfrm>
            <a:off x="2465280" y="1871640"/>
            <a:ext cx="4648320" cy="3591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7" descr="train_size3_caption"/>
          <p:cNvPicPr/>
          <p:nvPr/>
        </p:nvPicPr>
        <p:blipFill>
          <a:blip r:embed="rId2"/>
          <a:stretch/>
        </p:blipFill>
        <p:spPr>
          <a:xfrm>
            <a:off x="1589040" y="5505480"/>
            <a:ext cx="64008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3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raining Siz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14520" y="16318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 iden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685800" y="64008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ship Attribution a Comparison Of Three Methods, Matthew Care, Slide from Nakov/Hearst/Rosa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infl_training_size_auth_ident"/>
          <p:cNvPicPr/>
          <p:nvPr/>
        </p:nvPicPr>
        <p:blipFill>
          <a:blip r:embed="rId1"/>
          <a:stretch/>
        </p:blipFill>
        <p:spPr>
          <a:xfrm>
            <a:off x="1638360" y="2438280"/>
            <a:ext cx="58672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Violation of NB Assumption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al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al independen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1335240" y="65530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Naïve Bayes is Not So Naïv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ïve Bayes: first and second place in KDD-CUP 97 competition, among 16 (then) state of the ar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65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Financial services industry direct mail response prediction model: Predict if the recipient of mail will actually respond to the advertisement – 750,000 reco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ust to Irrelevant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65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relevant Features cancel each other without affecting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65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 Decision Trees can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heavi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ffer from th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good in domains with man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qually import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6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 suffer fro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rag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such cases – especially if littl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ood dependable baseline for text classification (but not the best)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ooter Placeholder 4"/>
          <p:cNvSpPr/>
          <p:nvPr/>
        </p:nvSpPr>
        <p:spPr>
          <a:xfrm>
            <a:off x="1447920" y="6562800"/>
            <a:ext cx="236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is Not So Naïv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3600" indent="-363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if the Independence Assumptions hold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4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ssumed independence is correct, then it is the Bayes Optimal Classifier for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Fas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with one pass of counting over the data; testing linear in the number of attributes, and document collection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torage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Learning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trained incrementally, on new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w Cen MT Condensed"/>
              </a:rPr>
              <a:t>SpamAssassi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ïve Bayes widely used in spam filte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ul Graham’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Plan for Sp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utant with more mutant offspring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ive Bayes-like classifier with weird parameter est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lso many other things: black hole list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email topic filters also use NB class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1143000" y="65530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pamAssassin Tes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9144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s Generic Viag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Pharm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escription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ions millions of (dollar) ((dollar) NN,NNN,NNN.N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s about Oprah with an exclamatio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: impress ... gi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: starts with many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contains "Your Famil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is all capit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has a low ratio of text to image ar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hundred percent guarant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s you can be removed from the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Prestigious Non-Accredited Universities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spamassassin.apache.org/tests_3_3_x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Naïve Bayes: Word Sense Disambigu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440" y="1706400"/>
            <a:ext cx="838188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mbiguous 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s for wor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ds in the contex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probability of sen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ty that wor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in context of sen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"/>
              <p:cNvSpPr txBox="1"/>
              <p:nvPr/>
            </p:nvSpPr>
            <p:spPr>
              <a:xfrm>
                <a:off x="2544840" y="4648320"/>
                <a:ext cx="1888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3"/>
              <p:cNvSpPr txBox="1"/>
              <p:nvPr/>
            </p:nvSpPr>
            <p:spPr>
              <a:xfrm>
                <a:off x="2617920" y="3857760"/>
                <a:ext cx="13809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3"/>
              <p:cNvSpPr txBox="1"/>
              <p:nvPr/>
            </p:nvSpPr>
            <p:spPr>
              <a:xfrm>
                <a:off x="2590920" y="5462640"/>
                <a:ext cx="3948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584400" y="3309840"/>
            <a:ext cx="1445760" cy="3682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154720" y="3309840"/>
            <a:ext cx="592200" cy="368280"/>
          </a:xfrm>
          <a:prstGeom prst="rect">
            <a:avLst/>
          </a:prstGeom>
          <a:noFill/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233320" y="3309840"/>
            <a:ext cx="1252080" cy="36828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arb.Co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853800" y="3309840"/>
            <a:ext cx="12902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626840" y="3314880"/>
            <a:ext cx="537480" cy="368280"/>
          </a:xfrm>
          <a:prstGeom prst="rec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601000" y="3309840"/>
            <a:ext cx="1159200" cy="368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638080" y="3865680"/>
            <a:ext cx="13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languag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837240" y="386568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proof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1097280" y="3865680"/>
            <a:ext cx="175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i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networ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5326920" y="3865680"/>
            <a:ext cx="157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ar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regi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6019920" y="1509840"/>
            <a:ext cx="304560" cy="457200"/>
          </a:xfrm>
          <a:prstGeom prst="foldedCorner">
            <a:avLst>
              <a:gd name="adj" fmla="val 286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6358680" y="1455840"/>
            <a:ext cx="150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ro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intelligenc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-75240" y="385776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AutoShape 15"/>
          <p:cNvCxnSpPr>
            <a:stCxn id="290" idx="1"/>
            <a:endCxn id="285" idx="0"/>
          </p:cNvCxnSpPr>
          <p:nvPr/>
        </p:nvCxnSpPr>
        <p:spPr>
          <a:xfrm flipV="1" rot="10800000">
            <a:off x="3180600" y="1738080"/>
            <a:ext cx="2839320" cy="1553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Text Box 16"/>
          <p:cNvSpPr/>
          <p:nvPr/>
        </p:nvSpPr>
        <p:spPr>
          <a:xfrm>
            <a:off x="-38520" y="170640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-57240" y="30193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alatino"/>
              </a:rPr>
              <a:t>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2325960" y="27288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(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ocument Classifi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1241280" y="65530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4291920" y="27288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(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7362720" y="27288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(H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22"/>
          <p:cNvCxnSpPr>
            <a:endCxn id="296" idx="0"/>
          </p:cNvCxnSpPr>
          <p:nvPr/>
        </p:nvCxnSpPr>
        <p:spPr>
          <a:xfrm flipH="1">
            <a:off x="2618640" y="2133360"/>
            <a:ext cx="2105640" cy="595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" name="AutoShape 23"/>
          <p:cNvCxnSpPr>
            <a:endCxn id="299" idx="0"/>
          </p:cNvCxnSpPr>
          <p:nvPr/>
        </p:nvCxnSpPr>
        <p:spPr>
          <a:xfrm>
            <a:off x="4724280" y="2133360"/>
            <a:ext cx="496080" cy="595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3" name="AutoShape 24"/>
          <p:cNvCxnSpPr>
            <a:endCxn id="300" idx="0"/>
          </p:cNvCxnSpPr>
          <p:nvPr/>
        </p:nvCxnSpPr>
        <p:spPr>
          <a:xfrm>
            <a:off x="4724280" y="2133360"/>
            <a:ext cx="3012480" cy="595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4" name="AutoShape 25"/>
          <p:cNvCxnSpPr>
            <a:stCxn id="296" idx="2"/>
            <a:endCxn id="285" idx="0"/>
          </p:cNvCxnSpPr>
          <p:nvPr/>
        </p:nvCxnSpPr>
        <p:spPr>
          <a:xfrm>
            <a:off x="2619000" y="3095640"/>
            <a:ext cx="562680" cy="19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5" name="AutoShape 26"/>
          <p:cNvCxnSpPr>
            <a:stCxn id="299" idx="2"/>
            <a:endCxn id="283" idx="0"/>
          </p:cNvCxnSpPr>
          <p:nvPr/>
        </p:nvCxnSpPr>
        <p:spPr>
          <a:xfrm flipH="1">
            <a:off x="4498560" y="3095640"/>
            <a:ext cx="721440" cy="19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" name="AutoShape 27"/>
          <p:cNvCxnSpPr>
            <a:stCxn id="299" idx="2"/>
            <a:endCxn id="282" idx="0"/>
          </p:cNvCxnSpPr>
          <p:nvPr/>
        </p:nvCxnSpPr>
        <p:spPr>
          <a:xfrm>
            <a:off x="5219280" y="3095640"/>
            <a:ext cx="640440" cy="19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7" name="AutoShape 28"/>
          <p:cNvCxnSpPr>
            <a:stCxn id="300" idx="2"/>
            <a:endCxn id="280" idx="0"/>
          </p:cNvCxnSpPr>
          <p:nvPr/>
        </p:nvCxnSpPr>
        <p:spPr>
          <a:xfrm flipH="1">
            <a:off x="7306560" y="3095640"/>
            <a:ext cx="429480" cy="19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8" name="AutoShape 29"/>
          <p:cNvCxnSpPr>
            <a:stCxn id="300" idx="2"/>
            <a:endCxn id="281" idx="0"/>
          </p:cNvCxnSpPr>
          <p:nvPr/>
        </p:nvCxnSpPr>
        <p:spPr>
          <a:xfrm>
            <a:off x="7736040" y="3095640"/>
            <a:ext cx="716400" cy="19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9" name="AutoShape 30"/>
          <p:cNvCxnSpPr>
            <a:stCxn id="296" idx="2"/>
            <a:endCxn id="284" idx="0"/>
          </p:cNvCxnSpPr>
          <p:nvPr/>
        </p:nvCxnSpPr>
        <p:spPr>
          <a:xfrm flipH="1">
            <a:off x="1894680" y="3095640"/>
            <a:ext cx="724680" cy="200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0" name="Text Box 31"/>
          <p:cNvSpPr/>
          <p:nvPr/>
        </p:nvSpPr>
        <p:spPr>
          <a:xfrm>
            <a:off x="6744240" y="38685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2"/>
          <p:cNvSpPr/>
          <p:nvPr/>
        </p:nvSpPr>
        <p:spPr>
          <a:xfrm>
            <a:off x="8179200" y="3886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assification Methods:  Hand-coded rul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pam/email filters, etc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ssign category if document contains a given boolean combination of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uracy is often very high if a rule has been carefully refined over time by a subject exp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maintaining these rules is exp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219320" y="651204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 from Chris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assification Methods: Machine Learning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vised Machine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learn a function from documents (or sentences) to lab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ive Bayes (simple, common metho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-Nearest Neighbors (simple, powerfu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-vector machines (new, more powerfu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s many othe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ree lunch: requires hand-classified trai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data can be built up (and refined) by amate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1295280" y="6553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from Chris M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ïve Bayes Intu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28:22Z</dcterms:created>
  <dc:creator>Christopher Manning</dc:creator>
  <dc:description/>
  <dc:language>en-US</dc:language>
  <cp:lastModifiedBy>Giuseppe Attardi</cp:lastModifiedBy>
  <cp:lastPrinted>2003-11-11T21:18:08Z</cp:lastPrinted>
  <dcterms:modified xsi:type="dcterms:W3CDTF">2015-10-20T14:00:26Z</dcterms:modified>
  <cp:revision>155</cp:revision>
  <dc:subject/>
  <dc:title>CS276B Text Information Retrieval, Mining, and Exploitation</dc:title>
</cp:coreProperties>
</file>